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87A-29B1-4D0F-B62D-B068E8E3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3039-0FE2-419F-A9E0-94EE5271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5B17-ADAF-4F83-9AEF-DA8A463A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FCFD-20B9-4FE5-B447-CD3F7E37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9727-699C-4C47-A5E9-A36E458F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4E61-CF29-4510-B2A4-6439C424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7106-E8EB-4D7A-8DB3-A32AD68B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261A-2243-4FBE-A3AB-9D96FF28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31CA-11FE-47C0-BC83-1C5D9DCA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09E8-1938-4BA2-A44C-5688B3C8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277-5ABF-46E9-A20B-EB41BBBB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630B-079F-4593-8E86-BAB3E5A2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9A48-FF1E-426A-8A09-ABCB2FA95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95480" y="401760"/>
            <a:ext cx="11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78000" y="324000"/>
            <a:ext cx="6565680" cy="402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71760" y="806400"/>
            <a:ext cx="4680" cy="3546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4654080" y="809640"/>
            <a:ext cx="1800" cy="3535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89600" y="814320"/>
            <a:ext cx="0" cy="3556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71520" y="376704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722680" y="3610080"/>
            <a:ext cx="558720" cy="231120"/>
            <a:chOff x="2722680" y="3610080"/>
            <a:chExt cx="558720" cy="231120"/>
          </a:xfrm>
        </p:grpSpPr>
        <p:sp>
          <p:nvSpPr>
            <p:cNvPr id="48" name=""/>
            <p:cNvSpPr/>
            <p:nvPr/>
          </p:nvSpPr>
          <p:spPr>
            <a:xfrm>
              <a:off x="2722680" y="3654360"/>
              <a:ext cx="136440" cy="136440"/>
            </a:xfrm>
            <a:prstGeom prst="diamond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87840" y="37227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73240" y="3610080"/>
              <a:ext cx="308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 flipH="1" flipV="1">
            <a:off x="2314080" y="331920"/>
            <a:ext cx="1800" cy="40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71520" y="963720"/>
            <a:ext cx="108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siness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70240" y="925560"/>
            <a:ext cx="952560" cy="398520"/>
          </a:xfrm>
          <a:prstGeom prst="roundRect">
            <a:avLst>
              <a:gd name="adj" fmla="val 27093"/>
            </a:avLst>
          </a:prstGeom>
          <a:gradFill rotWithShape="0">
            <a:gsLst>
              <a:gs pos="0">
                <a:srgbClr val="ccecff"/>
              </a:gs>
              <a:gs pos="100000">
                <a:srgbClr val="9ab2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67000" y="906480"/>
            <a:ext cx="965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portunity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33680" y="925560"/>
            <a:ext cx="1166760" cy="398520"/>
          </a:xfrm>
          <a:prstGeom prst="roundRect">
            <a:avLst>
              <a:gd name="adj" fmla="val 27093"/>
            </a:avLst>
          </a:prstGeom>
          <a:gradFill rotWithShape="0">
            <a:gsLst>
              <a:gs pos="0">
                <a:srgbClr val="ccecff"/>
              </a:gs>
              <a:gs pos="100000">
                <a:srgbClr val="9ab2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14760" y="925560"/>
            <a:ext cx="819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08440" y="925560"/>
            <a:ext cx="1127160" cy="398520"/>
          </a:xfrm>
          <a:prstGeom prst="roundRect">
            <a:avLst>
              <a:gd name="adj" fmla="val 27093"/>
            </a:avLst>
          </a:prstGeom>
          <a:gradFill rotWithShape="0">
            <a:gsLst>
              <a:gs pos="0">
                <a:srgbClr val="ccecff"/>
              </a:gs>
              <a:gs pos="100000">
                <a:srgbClr val="9ab2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65760" y="925560"/>
            <a:ext cx="819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siness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925560"/>
            <a:ext cx="1779480" cy="398520"/>
          </a:xfrm>
          <a:prstGeom prst="roundRect">
            <a:avLst>
              <a:gd name="adj" fmla="val 27093"/>
            </a:avLst>
          </a:prstGeom>
          <a:gradFill rotWithShape="0">
            <a:gsLst>
              <a:gs pos="0">
                <a:srgbClr val="ccecff"/>
              </a:gs>
              <a:gs pos="100000">
                <a:srgbClr val="9ab2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24760" y="925560"/>
            <a:ext cx="121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l Business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71520" y="808200"/>
            <a:ext cx="6570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70120" y="401760"/>
            <a:ext cx="213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14440" y="1380960"/>
            <a:ext cx="1062000" cy="6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portunity scan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siness Enqui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73560" y="1380960"/>
            <a:ext cx="129528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ess opportunity and market nee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elop alternat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ess risks and uncertain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k alignment with strate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06920" y="1380960"/>
            <a:ext cx="1295280" cy="6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best alternat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elop engineering design crite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echnolo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elop busi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75280" y="1380960"/>
            <a:ext cx="12956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ine sco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oject execution p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upply and offtake agre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271520" y="2171880"/>
            <a:ext cx="6586560" cy="1385640"/>
            <a:chOff x="1271520" y="2171880"/>
            <a:chExt cx="6586560" cy="1385640"/>
          </a:xfrm>
        </p:grpSpPr>
        <p:sp>
          <p:nvSpPr>
            <p:cNvPr id="68" name=""/>
            <p:cNvSpPr/>
            <p:nvPr/>
          </p:nvSpPr>
          <p:spPr>
            <a:xfrm>
              <a:off x="2550960" y="2205000"/>
              <a:ext cx="81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cep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29000" y="2325600"/>
              <a:ext cx="126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e-Feasibi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68840" y="2440080"/>
              <a:ext cx="1265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easibi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08680" y="2554200"/>
              <a:ext cx="179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tailed Engineer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71520" y="2232000"/>
              <a:ext cx="1044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ngineering Stud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96960" y="2432160"/>
              <a:ext cx="881280" cy="712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79680" y="2550960"/>
              <a:ext cx="1274760" cy="716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57680" y="2670120"/>
              <a:ext cx="1230480" cy="716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89600" y="2790720"/>
              <a:ext cx="1797120" cy="716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1520" y="2171880"/>
              <a:ext cx="658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271520" y="3557520"/>
              <a:ext cx="656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11560" y="2943360"/>
              <a:ext cx="1062000" cy="6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6840" indent="-9684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liminary engineering proposal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96840" indent="-9684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pital estimate: &gt; +/-50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89400" y="2943360"/>
              <a:ext cx="1244520" cy="4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6840" indent="-9684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-feasibility stud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96840" indent="-9684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udy estimate +/-30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49760" y="2943360"/>
              <a:ext cx="1244520" cy="4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6840" indent="-9684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easibility stud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96840" indent="-9684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udget estimate +/-15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87880" y="2943360"/>
              <a:ext cx="16434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6840" indent="-9684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tailed engineering packa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96840" indent="-9684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trol estimate +/-10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936960" y="3610080"/>
            <a:ext cx="558720" cy="231120"/>
            <a:chOff x="3936960" y="3610080"/>
            <a:chExt cx="558720" cy="231120"/>
          </a:xfrm>
        </p:grpSpPr>
        <p:sp>
          <p:nvSpPr>
            <p:cNvPr id="84" name=""/>
            <p:cNvSpPr/>
            <p:nvPr/>
          </p:nvSpPr>
          <p:spPr>
            <a:xfrm>
              <a:off x="3936960" y="3654360"/>
              <a:ext cx="136440" cy="136440"/>
            </a:xfrm>
            <a:prstGeom prst="diamond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02120" y="37227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87520" y="3610080"/>
              <a:ext cx="308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5156280" y="3610080"/>
            <a:ext cx="558720" cy="231120"/>
            <a:chOff x="5156280" y="3610080"/>
            <a:chExt cx="558720" cy="231120"/>
          </a:xfrm>
        </p:grpSpPr>
        <p:sp>
          <p:nvSpPr>
            <p:cNvPr id="88" name=""/>
            <p:cNvSpPr/>
            <p:nvPr/>
          </p:nvSpPr>
          <p:spPr>
            <a:xfrm>
              <a:off x="5156280" y="3654360"/>
              <a:ext cx="136440" cy="136440"/>
            </a:xfrm>
            <a:prstGeom prst="diamond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21440" y="37227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06840" y="3610080"/>
              <a:ext cx="308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683400" y="3610080"/>
            <a:ext cx="558720" cy="231120"/>
            <a:chOff x="6683400" y="3610080"/>
            <a:chExt cx="558720" cy="231120"/>
          </a:xfrm>
        </p:grpSpPr>
        <p:sp>
          <p:nvSpPr>
            <p:cNvPr id="92" name=""/>
            <p:cNvSpPr/>
            <p:nvPr/>
          </p:nvSpPr>
          <p:spPr>
            <a:xfrm>
              <a:off x="6683400" y="3654360"/>
              <a:ext cx="136440" cy="136440"/>
            </a:xfrm>
            <a:prstGeom prst="diamond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48560" y="37227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3960" y="3610080"/>
              <a:ext cx="308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317680" y="3824280"/>
            <a:ext cx="106200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tegic f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pt next phase p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22800" y="3830760"/>
            <a:ext cx="136656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ght busi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liminary financ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pt next phase p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89640" y="3857760"/>
            <a:ext cx="135252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ght solu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pt next phase p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78440" y="3863880"/>
            <a:ext cx="19274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 author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pt implementation p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219240" y="387360"/>
            <a:ext cx="6885000" cy="5719680"/>
            <a:chOff x="219240" y="387360"/>
            <a:chExt cx="6885000" cy="5719680"/>
          </a:xfrm>
        </p:grpSpPr>
        <p:sp>
          <p:nvSpPr>
            <p:cNvPr id="100" name=""/>
            <p:cNvSpPr/>
            <p:nvPr/>
          </p:nvSpPr>
          <p:spPr>
            <a:xfrm>
              <a:off x="222120" y="2995560"/>
              <a:ext cx="898560" cy="31114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9240" y="388800"/>
              <a:ext cx="898200" cy="24433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01680" y="1262160"/>
              <a:ext cx="2578320" cy="15699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01680" y="2982960"/>
              <a:ext cx="2578320" cy="14335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01680" y="4470480"/>
              <a:ext cx="2578320" cy="7779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01680" y="5302080"/>
              <a:ext cx="2578320" cy="8049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73680" y="1252440"/>
              <a:ext cx="3124080" cy="15750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01680" y="387360"/>
              <a:ext cx="2578320" cy="7952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6200000">
              <a:off x="-239760" y="1447200"/>
              <a:ext cx="155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RECT C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-340920" y="4426920"/>
              <a:ext cx="175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DIRECT C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66560" y="641520"/>
              <a:ext cx="123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QUIP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67280" y="1905120"/>
              <a:ext cx="161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STRU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76560" y="387360"/>
              <a:ext cx="3124440" cy="806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18120" y="463680"/>
              <a:ext cx="2454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jor Equip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ulk Mater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eight &amp; Transpor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18120" y="1251000"/>
              <a:ext cx="23320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te Faciliti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te Cos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v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chani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lectric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strum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issio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67200" y="2986200"/>
              <a:ext cx="3124080" cy="14382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20120" y="3147840"/>
              <a:ext cx="2599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tailed Engineer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urement 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struction Team Ca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21280" y="3187800"/>
              <a:ext cx="1622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GINEER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UREMEN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STRU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66560" y="4718160"/>
              <a:ext cx="157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WNER’S C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71880" y="4470480"/>
              <a:ext cx="3124080" cy="785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18120" y="4591080"/>
              <a:ext cx="260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der of Magnitude Stud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sic Enginee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67280" y="5562720"/>
              <a:ext cx="149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INGEN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79800" y="5313240"/>
              <a:ext cx="3124440" cy="785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18120" y="5553000"/>
              <a:ext cx="253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lowan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2604960" y="995400"/>
            <a:ext cx="4567320" cy="3435480"/>
            <a:chOff x="2604960" y="995400"/>
            <a:chExt cx="4567320" cy="3435480"/>
          </a:xfrm>
        </p:grpSpPr>
        <p:sp>
          <p:nvSpPr>
            <p:cNvPr id="125" name=""/>
            <p:cNvSpPr/>
            <p:nvPr/>
          </p:nvSpPr>
          <p:spPr>
            <a:xfrm>
              <a:off x="2604960" y="995400"/>
              <a:ext cx="4567320" cy="343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60600" y="1228680"/>
              <a:ext cx="3338640" cy="2489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60600" y="1228680"/>
              <a:ext cx="3338640" cy="2489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16320" y="371808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16320" y="330372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16320" y="2887560"/>
              <a:ext cx="44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16320" y="2473200"/>
              <a:ext cx="44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16320" y="2059200"/>
              <a:ext cx="44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16320" y="1643040"/>
              <a:ext cx="442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16320" y="1228680"/>
              <a:ext cx="4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360600" y="3718080"/>
              <a:ext cx="180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030560" y="3718080"/>
              <a:ext cx="180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699080" y="371808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359320" y="3718080"/>
              <a:ext cx="32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030720" y="3718080"/>
              <a:ext cx="180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699240" y="371808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94160" y="1643040"/>
              <a:ext cx="536400" cy="1327320"/>
            </a:xfrm>
            <a:custGeom>
              <a:avLst/>
              <a:gdLst/>
              <a:ahLst/>
              <a:rect l="l" t="t" r="r" b="b"/>
              <a:pathLst>
                <a:path w="310" h="826">
                  <a:moveTo>
                    <a:pt x="0" y="0"/>
                  </a:moveTo>
                  <a:lnTo>
                    <a:pt x="37" y="109"/>
                  </a:lnTo>
                  <a:lnTo>
                    <a:pt x="78" y="217"/>
                  </a:lnTo>
                  <a:lnTo>
                    <a:pt x="150" y="444"/>
                  </a:lnTo>
                  <a:lnTo>
                    <a:pt x="186" y="552"/>
                  </a:lnTo>
                  <a:lnTo>
                    <a:pt x="227" y="656"/>
                  </a:lnTo>
                  <a:lnTo>
                    <a:pt x="269" y="748"/>
                  </a:lnTo>
                  <a:lnTo>
                    <a:pt x="310" y="8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30560" y="2970360"/>
              <a:ext cx="668520" cy="539640"/>
            </a:xfrm>
            <a:custGeom>
              <a:avLst/>
              <a:gdLst/>
              <a:ahLst/>
              <a:rect l="l" t="t" r="r" b="b"/>
              <a:pathLst>
                <a:path w="387" h="335">
                  <a:moveTo>
                    <a:pt x="0" y="0"/>
                  </a:moveTo>
                  <a:lnTo>
                    <a:pt x="46" y="67"/>
                  </a:lnTo>
                  <a:lnTo>
                    <a:pt x="93" y="124"/>
                  </a:lnTo>
                  <a:lnTo>
                    <a:pt x="139" y="170"/>
                  </a:lnTo>
                  <a:lnTo>
                    <a:pt x="191" y="211"/>
                  </a:lnTo>
                  <a:lnTo>
                    <a:pt x="237" y="247"/>
                  </a:lnTo>
                  <a:lnTo>
                    <a:pt x="289" y="278"/>
                  </a:lnTo>
                  <a:lnTo>
                    <a:pt x="387" y="33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99080" y="3510000"/>
              <a:ext cx="660240" cy="133200"/>
            </a:xfrm>
            <a:custGeom>
              <a:avLst/>
              <a:gdLst/>
              <a:ahLst/>
              <a:rect l="l" t="t" r="r" b="b"/>
              <a:pathLst>
                <a:path w="382" h="83">
                  <a:moveTo>
                    <a:pt x="0" y="0"/>
                  </a:moveTo>
                  <a:lnTo>
                    <a:pt x="46" y="21"/>
                  </a:lnTo>
                  <a:lnTo>
                    <a:pt x="98" y="41"/>
                  </a:lnTo>
                  <a:lnTo>
                    <a:pt x="145" y="52"/>
                  </a:lnTo>
                  <a:lnTo>
                    <a:pt x="191" y="62"/>
                  </a:lnTo>
                  <a:lnTo>
                    <a:pt x="284" y="72"/>
                  </a:lnTo>
                  <a:lnTo>
                    <a:pt x="382" y="8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59320" y="3643200"/>
              <a:ext cx="671400" cy="33480"/>
            </a:xfrm>
            <a:custGeom>
              <a:avLst/>
              <a:gdLst/>
              <a:ahLst/>
              <a:rect l="l" t="t" r="r" b="b"/>
              <a:pathLst>
                <a:path w="387" h="20">
                  <a:moveTo>
                    <a:pt x="0" y="0"/>
                  </a:moveTo>
                  <a:lnTo>
                    <a:pt x="98" y="10"/>
                  </a:lnTo>
                  <a:lnTo>
                    <a:pt x="191" y="15"/>
                  </a:lnTo>
                  <a:lnTo>
                    <a:pt x="289" y="15"/>
                  </a:lnTo>
                  <a:lnTo>
                    <a:pt x="387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82400" y="3652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82400" y="3237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82400" y="2822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82400" y="2406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82400" y="1992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82400" y="1576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82400" y="1162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25320" y="3832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58920" y="3832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28880" y="3832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89120" y="3832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57640" y="3832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27240" y="3832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13200" y="4049640"/>
              <a:ext cx="216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evel of accuracy (% plus or minu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6200000">
              <a:off x="1697040" y="2720160"/>
              <a:ext cx="2521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st of estimate as % of total project co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1963800" y="576360"/>
            <a:ext cx="11161800" cy="3629520"/>
            <a:chOff x="1963800" y="576360"/>
            <a:chExt cx="11161800" cy="3629520"/>
          </a:xfrm>
        </p:grpSpPr>
        <p:sp>
          <p:nvSpPr>
            <p:cNvPr id="161" name=""/>
            <p:cNvSpPr/>
            <p:nvPr/>
          </p:nvSpPr>
          <p:spPr>
            <a:xfrm>
              <a:off x="1963800" y="576360"/>
              <a:ext cx="6027840" cy="339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11360" y="1790640"/>
              <a:ext cx="4926240" cy="17938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5920" y="1935000"/>
              <a:ext cx="0" cy="1567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33920" y="1944720"/>
              <a:ext cx="0" cy="15526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72320" y="2022480"/>
              <a:ext cx="0" cy="14461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 rot="10800000">
              <a:off x="2514960" y="3026520"/>
              <a:ext cx="10585080" cy="11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8" y="0"/>
                  </a:moveTo>
                  <a:arcTo wR="10800" hR="10800" stAng="-5397454" swAng="540368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8" y="0"/>
                  </a:moveTo>
                  <a:arcTo wR="10800" hR="10800" stAng="-5397454" swAng="5403681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0800000">
              <a:off x="2511720" y="644040"/>
              <a:ext cx="10613880" cy="22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6" y="0"/>
                  </a:moveTo>
                  <a:arcTo wR="10800" hR="10800" stAng="-5394866" swAng="53792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6" y="0"/>
                  </a:moveTo>
                  <a:arcTo wR="10800" hR="10800" stAng="-5394866" swAng="5379263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13160" y="1739880"/>
              <a:ext cx="0" cy="19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44840" y="1774800"/>
              <a:ext cx="62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+10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70320" y="2225520"/>
              <a:ext cx="614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+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67400" y="2541600"/>
              <a:ext cx="601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+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35600" y="2706840"/>
              <a:ext cx="71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+1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92280" y="3533760"/>
              <a:ext cx="50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78240" y="3276720"/>
              <a:ext cx="50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78200" y="3146400"/>
              <a:ext cx="50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53240" y="3076560"/>
              <a:ext cx="506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97120" y="3435480"/>
              <a:ext cx="234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er limit of accuracy estim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36800" y="2070000"/>
              <a:ext cx="220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pper limit of accuracy estim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6200000">
              <a:off x="1554840" y="2643480"/>
              <a:ext cx="144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fidence lim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04960" y="2746440"/>
              <a:ext cx="188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rrent Estim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42280" y="2720880"/>
              <a:ext cx="37944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14600" y="2973240"/>
              <a:ext cx="5181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490840" y="873000"/>
              <a:ext cx="5209920" cy="657360"/>
              <a:chOff x="2490840" y="873000"/>
              <a:chExt cx="5209920" cy="657360"/>
            </a:xfrm>
          </p:grpSpPr>
          <p:sp>
            <p:nvSpPr>
              <p:cNvPr id="184" name=""/>
              <p:cNvSpPr/>
              <p:nvPr/>
            </p:nvSpPr>
            <p:spPr>
              <a:xfrm>
                <a:off x="2544840" y="873000"/>
                <a:ext cx="819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ncep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422520" y="993600"/>
                <a:ext cx="1263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re-Feasibilit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662360" y="1108080"/>
                <a:ext cx="1265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Feasibilit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902200" y="1222200"/>
                <a:ext cx="1798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tailed Engineer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490840" y="1100160"/>
                <a:ext cx="880920" cy="71280"/>
              </a:xfrm>
              <a:prstGeom prst="rect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e46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73200" y="1218960"/>
                <a:ext cx="1274760" cy="71640"/>
              </a:xfrm>
              <a:prstGeom prst="rect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e46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651200" y="1338120"/>
                <a:ext cx="1230480" cy="71280"/>
              </a:xfrm>
              <a:prstGeom prst="rect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e46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883120" y="1458720"/>
                <a:ext cx="1797120" cy="71640"/>
              </a:xfrm>
              <a:prstGeom prst="rect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e46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26880" y="1251000"/>
            <a:ext cx="7618680" cy="5441760"/>
            <a:chOff x="326880" y="1251000"/>
            <a:chExt cx="7618680" cy="5441760"/>
          </a:xfrm>
        </p:grpSpPr>
        <p:sp>
          <p:nvSpPr>
            <p:cNvPr id="193" name=""/>
            <p:cNvSpPr/>
            <p:nvPr/>
          </p:nvSpPr>
          <p:spPr>
            <a:xfrm>
              <a:off x="4813200" y="1257480"/>
              <a:ext cx="3124440" cy="1493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38120" y="1258920"/>
              <a:ext cx="696960" cy="33638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17880" y="3419640"/>
              <a:ext cx="2442960" cy="1209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16080" y="2827440"/>
              <a:ext cx="2443320" cy="5173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17880" y="1258920"/>
              <a:ext cx="2442960" cy="1493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19680" y="2822400"/>
              <a:ext cx="3124080" cy="520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19680" y="3419640"/>
              <a:ext cx="3124080" cy="1209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52960" y="1349280"/>
              <a:ext cx="271620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w Materia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erating Labo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pervi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til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intenance and Repai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ppl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cence Fees &amp; Royal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6880" y="1251000"/>
              <a:ext cx="928800" cy="5441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38120" y="4740120"/>
              <a:ext cx="696960" cy="1952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16080" y="5735520"/>
              <a:ext cx="2443320" cy="9572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16080" y="4737240"/>
              <a:ext cx="2443320" cy="9014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6200000">
              <a:off x="386640" y="2772720"/>
              <a:ext cx="259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UFACTURING C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792720" y="5518440"/>
              <a:ext cx="178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ENERAL C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90680" y="1901880"/>
              <a:ext cx="223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RECT PRODU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61080" y="3594240"/>
              <a:ext cx="247464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fety, Health and Environ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or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ckag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re Depart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intenance and Worksho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92480" y="5030640"/>
              <a:ext cx="14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ISTRAT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90680" y="5954760"/>
              <a:ext cx="2094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LES AND DISTRIBU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21120" y="4738680"/>
              <a:ext cx="3124440" cy="9018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52960" y="4905360"/>
              <a:ext cx="284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agement Sal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ministrative Wag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ff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16440" y="5735520"/>
              <a:ext cx="3124080" cy="9558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52960" y="5916600"/>
              <a:ext cx="281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les and Sup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hipping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vertis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92120" y="293364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91400" y="3836880"/>
              <a:ext cx="159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NT OVERHE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52960" y="2873520"/>
              <a:ext cx="2130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sura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6200000">
              <a:off x="-575280" y="3802680"/>
              <a:ext cx="273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TAL OPERATING C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1:20:12Z</dcterms:created>
  <dc:creator>frank crundwell</dc:creator>
  <dc:description/>
  <dc:language>en-US</dc:language>
  <cp:lastModifiedBy>frank crundwell</cp:lastModifiedBy>
  <dcterms:modified xsi:type="dcterms:W3CDTF">2007-08-16T16:38:18Z</dcterms:modified>
  <cp:revision>33</cp:revision>
  <dc:subject/>
  <dc:title>PowerPoint Presentation</dc:title>
</cp:coreProperties>
</file>